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3D1-EEAF-4149-B179-54C70986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C3F-DCCD-44EF-BA07-5E95C269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91D-F20A-4929-BEC7-448BA336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BA5-9563-4037-96AC-648DD5FC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93E-CF2D-4840-89C4-50981780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FDD-7CD7-4F18-B298-FDEF3EE0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0C8-630F-47A5-ADFD-2D34A491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ABE-AFBE-45EC-8F91-7954F352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95C-5661-47A9-884B-8168EF90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778-2B26-479E-88AA-6CA6FCF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4D0-929A-48E1-92F6-78EF2EC5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FDB-135F-449B-B51F-BBDA3885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13F8-F942-4CE9-9B41-291F6505A2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preposi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ye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148360" y="4508640"/>
            <a:ext cx="4248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AGOPLD5CAL7S2P6CATZ9PF7CAM3QQJOCAFU19W2CAZTB0XJCAUNFFNLCAT91JIUCAP2NSOSCAQVJ9OJCAVUW3W6CAOUZRGFCAIYQ4C5CAZF6OZLCAA1VPIQCA3HZRDTCAKRZ363CA91A01TCAJGF9RICACF0XD8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Line 16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7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4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7" descr="Point 1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Heart blue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9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2050920" y="3500280"/>
            <a:ext cx="359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600" spc="-1" strike="noStrike">
                <a:solidFill>
                  <a:srgbClr val="333399"/>
                </a:solidFill>
                <a:latin typeface="Arial"/>
              </a:rPr>
              <a:t>posi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1"/>
          <p:cNvSpPr/>
          <p:nvPr/>
        </p:nvSpPr>
        <p:spPr>
          <a:xfrm>
            <a:off x="1979640" y="5300640"/>
            <a:ext cx="416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NZ" sz="48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3"/>
          <p:cNvSpPr/>
          <p:nvPr/>
        </p:nvSpPr>
        <p:spPr>
          <a:xfrm rot="20917200">
            <a:off x="6296040" y="2053800"/>
            <a:ext cx="19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5"/>
          <p:cNvSpPr/>
          <p:nvPr/>
        </p:nvSpPr>
        <p:spPr>
          <a:xfrm>
            <a:off x="7775640" y="371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6" descr="Grass hut"/>
          <p:cNvPicPr/>
          <p:nvPr/>
        </p:nvPicPr>
        <p:blipFill>
          <a:blip r:embed="rId5"/>
          <a:stretch/>
        </p:blipFill>
        <p:spPr>
          <a:xfrm>
            <a:off x="1908000" y="1268280"/>
            <a:ext cx="3672000" cy="223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7"/>
          <p:cNvSpPr/>
          <p:nvPr/>
        </p:nvSpPr>
        <p:spPr>
          <a:xfrm>
            <a:off x="3203640" y="2565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8" descr="Highrise v2"/>
          <p:cNvPicPr/>
          <p:nvPr/>
        </p:nvPicPr>
        <p:blipFill>
          <a:blip r:embed="rId6"/>
          <a:stretch/>
        </p:blipFill>
        <p:spPr>
          <a:xfrm>
            <a:off x="5651640" y="1197000"/>
            <a:ext cx="1054080" cy="2401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9" descr="Highrise v2"/>
          <p:cNvPicPr/>
          <p:nvPr/>
        </p:nvPicPr>
        <p:blipFill>
          <a:blip r:embed="rId7"/>
          <a:stretch/>
        </p:blipFill>
        <p:spPr>
          <a:xfrm>
            <a:off x="7885080" y="1341360"/>
            <a:ext cx="1054080" cy="2401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3"/>
          <p:cNvSpPr/>
          <p:nvPr/>
        </p:nvSpPr>
        <p:spPr>
          <a:xfrm rot="20917200">
            <a:off x="7137360" y="902880"/>
            <a:ext cx="19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 Susan de Lautour</cp:lastModifiedBy>
  <dcterms:modified xsi:type="dcterms:W3CDTF">2010-02-28T16:32:23Z</dcterms:modified>
  <cp:revision>28</cp:revision>
  <dc:subject/>
  <dc:title>Simile</dc:title>
</cp:coreProperties>
</file>